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049-D29C-4219-B08A-EFFCC934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B5B-A554-497D-A67B-3C51AB47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976-0CAC-4DFE-AD8F-A6D10F28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05E-E386-48EA-A32F-3CA953E9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5F7-5815-4DBF-B5CD-B4443E69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7B84-102D-4D00-97D2-C47EA32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0ACD-921C-4282-9CFC-01E0FF99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83A4-9933-4CE1-B56A-AD67EE42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F7DE-33B5-4125-AA40-969035C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C5E8-4DD3-4794-B961-6E04902F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319C-8ABF-4BBF-B0CA-BC890399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F52-45B7-4E1D-8789-7EB5C78A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7326-B53F-432E-9E98-871748ED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0C09-C582-4B91-8D8E-408216D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95EB-137C-4547-A555-1A3056A0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028-D77D-4DEC-A170-7C6031E3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0337-B532-4AC9-A2C7-C891C015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B60-9365-4B39-867B-E19D5EF8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794-9430-47CF-8626-A561FFFB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5A8-7C70-4830-9591-BFA2FCC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ECB-4F76-4B21-BD14-A67F634B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5EF-B86B-4A6B-BF29-9756C58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BE4-1C56-4F6A-A675-9D7DBEC6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1A2-1F92-4B66-A07B-DBC68158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168D-60FD-46F1-A26B-086F32A4E59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7B62-CAFC-4CD9-90FC-138043432BA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SI</a:t>
            </a:r>
            <a:r>
              <a:rPr b="0" lang="lt-LT" sz="4200" spc="-1" strike="noStrike">
                <a:solidFill>
                  <a:srgbClr val="330033"/>
                </a:solidFill>
                <a:latin typeface="Times New Roman"/>
              </a:rPr>
              <a:t>CHOLOGIJOS ĮVAD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ok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593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54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404640"/>
            <a:ext cx="6346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hn Wats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Psichologija biheivioristo požiūriu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VEIVIOR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raham Maslo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Motyvacija ir asmenybė”.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rl Rog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UMAN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ktor Frank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laikomas egzistencinės psichologijos pradini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ZISTENCI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raida Lietuvoje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6m. – VPU prad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ta ruošti psichologus (katedros vadovas A.Guč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m. –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m. – specialiosios psichologijos laborator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m. – Lietuvos psicholo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sąjung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PIBRĖŽIMAS IR OBJEKTAS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okslas, tiriantis psichikos faktus, nustatantis dėsnius ir kuriantis jų aiškinimo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os mokslo objekt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 ir jos reiškinia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a tyrinėja: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žinimo proc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dividualius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į 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OR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ndr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o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Zoo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opsichologija ir 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RAKT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inikin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nė psichologija (dar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dagog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orto, reklamos, teisės ir 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SICHOLOGIJOS MOKSLO IŠTAK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ligija, mitologija, filoso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enovės Rytų tautų psichologinės pažiū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tikinė psicholo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duramžių psicholog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istorija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1778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6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79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340000" y="1905120"/>
            <a:ext cx="634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rnst Web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ustav Fechn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sichofizikin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yrin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r Francis Galton 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ino vertinti intelektą, pradė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vynių tyrim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helm Wund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įkūrė pirmąją psichologijos laboratoriją Leipcige, Vokietijoje, kur pradėjo taikyti mokslinius metodus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7384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8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9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0" y="404640"/>
            <a:ext cx="70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man Ebbingha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cijų dėsniai, atminties tyrinėjim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liam Jame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irmasis psichologijos vadovėlis ,,Psichologijos principai” (2 tom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IZ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Sapnų aiškin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SICHODINAMINĖ PSICH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1593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6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404640"/>
            <a:ext cx="6275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lfred Bin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heodore Sim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ukuria I-ąjį intelekto te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usų fiziolog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van Pavlo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klasikinio sąlygojimo eksperimentai su gyvū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x Wertheimer, Wolfgang Köler, Kurt Koffka –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vokimo tyri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ŠTALTINĖ PSICHOLOG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1:47:41Z</dcterms:created>
  <dc:creator>vplc</dc:creator>
  <dc:description/>
  <dc:language>en-US</dc:language>
  <cp:lastModifiedBy> </cp:lastModifiedBy>
  <dcterms:modified xsi:type="dcterms:W3CDTF">2007-09-03T19:46:20Z</dcterms:modified>
  <cp:revision>20</cp:revision>
  <dc:subject/>
  <dc:title>PSICHOLOGIJOS ĮVADAS</dc:title>
</cp:coreProperties>
</file>